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051-6C80-4459-8549-440A7BFA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AAD-7CB5-455A-91D6-7CA2B2C0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E93-53A4-4F00-A07B-567E93E6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4AB-5979-467E-AAA6-345FFF66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2E62-7D13-446A-B4BE-7C7C43F3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A909-B876-4766-8D32-4879E47B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4375-9B7A-4B41-9DDC-7DDB2552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B1F4-D2E2-41B6-A558-98D99197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0A42-ADC2-4AFC-8C30-42E3FC85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12F2-15CC-4A7C-8813-DE08EFB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793B-44DB-4881-9FB4-0F4715E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4E4-03D7-4E6B-947F-293021F3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5608-C087-40CC-A0FB-9C7C6AFE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2020-4F6A-4427-832E-AF28418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3195-70CE-4878-8C9B-416FEA95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00A3-E9E1-470F-81B8-9729B5A2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3EF4-085F-4DFB-9C74-EA3D779C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6BE1D-2D67-40EC-8EE2-ECC365F8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63B4A-EC60-4514-A6D8-1530CCBE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6573D-56EC-446C-BBEB-83E9E51E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5EADE-322C-4BF1-9381-2B3A3E4C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0BB7B-87E8-44C7-B5DB-16C6F75B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F8D-CE50-42C1-9D3F-6DB4E9A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F6826-FCFE-455E-A450-F9D9E10A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C8182-B7A9-4C44-8182-BE18616F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E3450-7DB8-4474-BC80-5074FCC1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065DA-984C-40D6-85F9-A340DDD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B6E09-E40F-494B-A606-304487D6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84CD6-E1A9-45CC-AA03-1BE76119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2686B-D1EF-4F72-BE8C-DE26F1E2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C30B-3886-4EF3-A183-E527C583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8BEB6-0085-4278-AA89-F1D1E938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4808-CBC7-437D-804D-5B2D9348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5F0-2A63-43D0-9385-0EFA579B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DB57-D17D-4D54-B366-A38AEBE9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DA572-EFC6-480A-8FEA-C265C5F0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6BA8-2E65-4BC6-AD80-99C6FAAE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E7BF-7305-48F3-86D1-D0027CF5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B87D-4DAF-464A-BEE6-661BCE3C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10FE-FE49-4B97-BCA3-1D40DD4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B519-11D2-4C8E-8EEF-AD2102D8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1E0B-FCAE-4229-AB6D-D4E2490E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8465-FAA6-428A-B7B7-43A9F597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2561D-4FE5-4E56-9E21-86CC11E0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B3B-D3A3-45D0-825F-4650BC86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FD90D-62FA-4394-919C-452D62A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3D3D5-6E7C-41A4-BE68-481EB72A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98821-9448-4E65-86CC-D7BE6D4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FC9EE-20CA-4BDB-897F-7C8CA303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B8478-A2F3-4298-A700-2E42692E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DB8E0-C0A6-4FC7-AA36-074B81C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04EF2-8AAE-4D08-9212-7C24ECCD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4AE9E-964C-4E49-A26A-B4B669C7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DE59A-70D1-4C4B-A4CE-4471949D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9D153-280A-4D2A-970A-52335095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4EB-CB72-44F2-A780-7A348F16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4AE7E-2B7B-4035-8548-5CF9AE22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7DE34-3999-4989-93D9-F675CAF3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57C09-9B24-48CD-BD64-2347C37A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49249-8430-4824-9B80-D0EC08F2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85B89-7AB4-4E2E-9A67-113590B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AF431-5A17-4DA3-AE3A-F03EF085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9854F-D9FB-4451-80DF-A5787886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4282B-2EE3-422B-92F7-948D0A8B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B66AA-4C6F-49D3-8D7D-8445818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89EBE-0D39-4C5F-9E10-CAC7F20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C04-FEC9-4C8C-9410-75A68FFD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3915B-8014-4947-AC58-97CD741C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3F215-EAC9-491C-BD07-36AE1226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AC5FE-95AF-4D53-B2EE-CA77C405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3C293-B17C-47B0-9690-AF2DE79F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64038-1871-4C84-B074-AB56290B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6A29E-0670-4E88-A4FA-3F08D210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22E574-10A0-4E45-B31A-A9DEBAE1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25001-8D3D-4F46-BFA0-D35B79F6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9385E-88ED-4AD8-8F87-DFFE52DC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78314-82E9-4DEE-A254-4BF2353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BEE-CBAD-4EA3-844E-728788C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44749-4E23-4464-A6CB-8977A08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8DF77-0628-4C0F-BD3B-2F240287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06872-944F-4D8F-92BC-DD2B1954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5429C-E0DE-4CFB-8A90-D7D8DA8A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B49AC-21DA-493D-8357-8F7A94F4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C6B-9DB4-4527-8B72-40EA0488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A53D-76EF-4D7C-87AB-7882E4A99B85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7BE1-1631-45C3-9E3D-92BA2FCEAE6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4A2E-80FB-417C-AFBB-B17F879C76FF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EEDA-6806-44E5-B353-6AC630D6B18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7AD5-7F82-4071-BBA8-6CA693255727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130A-C3D4-4526-9128-7AF6AB4FF09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F44A-22A8-4842-A90B-1D76D494A344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E741-502F-47D1-8BE1-42D602BE9BA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4686-3559-42EC-936E-05E04B3B813E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5AE9-AE59-46D1-9934-F7F378BC30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AE68-4FA4-4B71-9A1C-FB8DF24CDC4C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666F-CD54-4310-8DCD-198E4289AAD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2758-2C4B-411C-BB1F-4DA5A9E3C616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719B-D0D2-40E4-A849-E5D72DE4424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E9A0-C8CD-424D-9ABC-067600F5744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"/>
          <p:cNvSpPr/>
          <p:nvPr/>
        </p:nvSpPr>
        <p:spPr>
          <a:xfrm>
            <a:off x="0" y="-128520"/>
            <a:ext cx="896472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 Black"/>
                <a:cs typeface="Times New Roman"/>
              </a:rPr>
              <a:t>الوراثة و مواضيع طبية متقدمة (ورث</a:t>
            </a:r>
            <a:r>
              <a:rPr b="1" lang="ar-SA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10</a:t>
            </a:r>
            <a:r>
              <a:rPr b="1" lang="ar-SA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TICS 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he cell cycle and cell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Genetic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 &amp;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Human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(Structure &amp; types) &amp; R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gma of Molecular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3.   Introduction to Human 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groups of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Genetic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715-4B2B-4CC1-BC1B-9D3168749BC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"/>
          <p:cNvSpPr/>
          <p:nvPr/>
        </p:nvSpPr>
        <p:spPr>
          <a:xfrm>
            <a:off x="131760" y="1052640"/>
            <a:ext cx="892800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Genotype &amp; Phenotype (&amp; Genetic Ma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Genetic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ancer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iagnosis of Genetic Dis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s of Techniques of Molecular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-time P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 Endonuc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S-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ern Blo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0" y="115920"/>
            <a:ext cx="905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Black"/>
                <a:cs typeface="Times New Roman"/>
              </a:rPr>
              <a:t>الوراثة و مواضيع طبية متقدمة (ورث</a:t>
            </a:r>
            <a:r>
              <a:rPr b="1" lang="ar-SA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10</a:t>
            </a:r>
            <a:r>
              <a:rPr b="1" lang="ar-SA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698-8E25-4F22-98D1-7BEB4CE5107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0" y="115884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Genetic Counseling = </a:t>
            </a:r>
            <a:r>
              <a:rPr b="1" lang="ar-SA" sz="2000" spc="-1" strike="noStrike">
                <a:solidFill>
                  <a:srgbClr val="000000"/>
                </a:solidFill>
                <a:latin typeface="Arial Black"/>
              </a:rPr>
              <a:t>الارشاد و المشو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0" y="44280"/>
            <a:ext cx="8893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Black"/>
                <a:cs typeface="Times New Roman"/>
              </a:rPr>
              <a:t>الوراثة و مواضيع طبية متقدمة (ورث</a:t>
            </a:r>
            <a:r>
              <a:rPr b="1" lang="ar-S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10</a:t>
            </a:r>
            <a:r>
              <a:rPr b="1" lang="ar-SA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0" y="306864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476360" y="3889440"/>
          <a:ext cx="6095880" cy="18288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x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c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am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am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nal Exa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06:14:37Z</dcterms:created>
  <dc:creator>Sony</dc:creator>
  <dc:description/>
  <dc:language>en-US</dc:language>
  <cp:lastModifiedBy>Mohammed Fakhri</cp:lastModifiedBy>
  <dcterms:modified xsi:type="dcterms:W3CDTF">2015-08-19T10:56:16Z</dcterms:modified>
  <cp:revision>4</cp:revision>
  <dc:subject/>
  <dc:title>Slide 1</dc:title>
</cp:coreProperties>
</file>